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67F-8A13-4AC7-BE44-9B4AD9D0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ADA-F84A-4BD4-BDDE-7AB9E822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992-7285-48FF-83E8-CFFF549B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8D5-D8FA-4CF7-AFC7-D350C734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47DC-88F8-40E1-A81F-E8FE090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5F7A-AC17-433B-889D-8E6C3F8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D53F-2725-4CF3-A8DA-67C0C2A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99D-62EC-434D-9EDE-08EF6A5A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60B-17C5-4E23-B0DC-DDBEAB6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9B0-BAB9-4358-833E-9C060847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F2F1-B159-4D86-81A4-A3809838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57A-0A36-44C1-9952-52F04B7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5D42-F9C4-48CD-ADFC-68B1AE6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3DE-DE4F-400F-9B45-B919246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1171-D23C-4FAE-B504-345A80BD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89D-8956-4B00-B7FA-F8F1BB8A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D194-3572-43CE-80D9-9C2A392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CA7-8554-4A58-9D58-3825C50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265-3BE9-4BC0-AF01-4F65319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AD-1572-4492-8C05-10D3A992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2C8-384B-464A-AE1D-4503A64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E9E-158E-4EEB-876E-3731204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F79-574A-4E87-B30D-8B920BB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576-850B-43C5-945E-ED83EFC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D08E-41C2-46A0-87F5-09DFD4B68F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759-D948-4AF2-B519-EF7E37FCD6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b/Jean-Fran&#231;ois_Millet_%28II%29_01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Jean-Fran&#231;ois_Millet_Angelu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03640" y="2852640"/>
            <a:ext cx="231444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Script MT Bold"/>
              </a:rPr>
              <a:t>Millet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Campesinos sembrando pata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Campesinos sembrando patatas"/>
          <p:cNvPicPr/>
          <p:nvPr/>
        </p:nvPicPr>
        <p:blipFill>
          <a:blip r:embed="rId1"/>
          <a:stretch/>
        </p:blipFill>
        <p:spPr>
          <a:xfrm>
            <a:off x="2627280" y="2565360"/>
            <a:ext cx="4465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Las espigad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45338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Script MT Bold"/>
              </a:rPr>
              <a:t>El sembra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Archivo:Jean-François Millet (II) 0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565360"/>
            <a:ext cx="4581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El ángel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Imagen:Jean-François Millet Angel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637000"/>
            <a:ext cx="52815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46:42Z</dcterms:created>
  <dc:creator>Pc 5</dc:creator>
  <dc:description/>
  <dc:language>en-US</dc:language>
  <cp:lastModifiedBy>Pc 5</cp:lastModifiedBy>
  <dcterms:modified xsi:type="dcterms:W3CDTF">2008-12-19T12:53:06Z</dcterms:modified>
  <cp:revision>1</cp:revision>
  <dc:subject/>
  <dc:title>Diapositiva 1</dc:title>
</cp:coreProperties>
</file>